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B76-11C1-4FF1-91BD-05675C00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B2D-C789-485D-938B-BB7A5B03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8C6-BCCC-45EA-BAC2-872312F7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064-87F3-49DE-9ABD-95FCB91C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328-670B-4275-A4F3-42721131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678-DCB6-4FDF-9C32-6CCA2F70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4ED-34B1-43A8-958F-30EED65B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7D7-2A23-4730-8C75-DEC2AB02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DF3-C762-439D-BB11-607D9957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2DF-D654-47F7-8FAD-1A4F421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1C2-3D40-433C-A241-8ECBEA48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E89-F12E-449E-8478-ABB5FD15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3698-D4B9-4346-B308-E9472D308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 seasonal wind with 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04920" y="5486400"/>
            <a:ext cx="8305560" cy="1068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  India’s floods were caused by the monsoon r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news.nationalgeographic.com/news/bigphotos/images/061201-india-monsoon_big.jpg"/>
          <p:cNvPicPr/>
          <p:nvPr/>
        </p:nvPicPr>
        <p:blipFill>
          <a:blip r:embed="rId1"/>
          <a:stretch/>
        </p:blipFill>
        <p:spPr>
          <a:xfrm>
            <a:off x="2133720" y="380880"/>
            <a:ext cx="458136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 intense storm system with high wi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22860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04920" y="54864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  The caste system in India has been outlawed because it is discrimi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20:26:01Z</dcterms:created>
  <dc:creator>poweruser</dc:creator>
  <dc:description/>
  <dc:language>en-US</dc:language>
  <cp:lastModifiedBy>poweruser</cp:lastModifiedBy>
  <dcterms:modified xsi:type="dcterms:W3CDTF">2011-01-06T21:29:48Z</dcterms:modified>
  <cp:revision>6</cp:revision>
  <dc:subject/>
  <dc:title>Slide 1</dc:title>
</cp:coreProperties>
</file>